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8BD-9FE4-424E-B7B5-8996ABC9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4B6-0A8C-45BA-942C-B95143B3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A64-E277-4A49-A487-9E034FD8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AB8-B7F3-492E-BA2A-281661F2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126-397D-4445-AED0-8C3214BD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1817-3BE1-42A1-B454-E47E7A4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3A6-5559-4A9E-B7D6-F3ABF09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B589-1D31-438C-9596-BACD8A6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C379-5E98-4EEA-BFDD-BEFF2F27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6B96-B5B1-4F8D-BD7B-A7051F9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8A2-1036-4383-8CE4-C8D8669B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C1C-7375-4634-91AF-6DFE9FCF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3A30-7027-4ABA-9AC9-CF838C4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259-6CB2-4297-91D6-EB1F41B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052A-7ACD-481A-BA41-DC786E5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F68-E447-4A54-8BCF-A53FAEA7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A797-F0A8-4218-B867-1257A39B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04E-0B3A-4446-A331-2A4C8BCF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B88-3357-4257-A8DE-DA5FCE6D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5C5-8AA0-4A1A-9619-56267A7D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F80-56FD-4B1E-AEF0-423BD893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C9A-1AA9-4D63-B639-379A387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79D-9846-4E35-B6BF-E6C48B0C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8EB-E6EA-4F7B-9DDB-59D141FA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9D9-182D-4727-BB16-B52583BEB3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B057-D6E5-4F71-A14A-A29FB388D2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71b9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ca8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ree Branches of Governmen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ance of P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ecutive Bran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and His Appoint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48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371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dicial Bran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reme Court Jud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ourts of App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Federal Cou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gislative Bran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g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15200" y="22096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295280" cy="97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22:19:32Z</dcterms:created>
  <dc:creator>Microsoft Corporation</dc:creator>
  <dc:description/>
  <dc:language>en-US</dc:language>
  <cp:lastModifiedBy>cworden</cp:lastModifiedBy>
  <dcterms:modified xsi:type="dcterms:W3CDTF">2008-08-14T18:54:49Z</dcterms:modified>
  <cp:revision>18</cp:revision>
  <dc:subject/>
  <dc:title>PPTNa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oHelpTopicID">
    <vt:lpwstr>RH010858241033</vt:lpwstr>
  </property>
</Properties>
</file>